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306-E81F-426D-B667-A524A17F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661-0FE9-4265-9226-817D7A1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A5F-B0F4-44F2-B3B6-B3C62365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042-5792-46EA-90EE-21A3E640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931-A362-4FB1-BFE0-B5B2E77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F5C-A0E3-41B0-8599-1169D980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B1-6A03-4E42-B498-01550E8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11A-501F-4B87-9B64-9299AC1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01-2792-4AF7-AE27-7924F60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AA6-C2D8-4407-8E6E-62DD9CB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A79-6D97-4E1C-B54A-8DF1A24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DBB-B121-4EA3-907B-AA61ABFE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09A-8605-472A-BA97-8C0BE05F29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76640"/>
            <a:ext cx="4788000" cy="228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عظم </a:t>
            </a:r>
            <a:br>
              <a:rPr sz="9600"/>
            </a:b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جدك يا إيلي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7280" y="0"/>
            <a:ext cx="507672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َ الَّذِي أَقَمْتَ مَيْتاً مِنَ الْمَوْت، وَمِنَ الْجَحِيمِ بكَلامِ الْعَلِ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084640"/>
            <a:ext cx="806472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184720"/>
            <a:ext cx="784836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خُطِفْتَ في عَاصِفَةٍ مِنَ النَّار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3960" y="5157720"/>
            <a:ext cx="1046160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مَركَبَةِ خَيْلٍ نَارِيَّةٍ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157720"/>
            <a:ext cx="532764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ُوبَى لِمَن عَايَنكَ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794960" y="5327640"/>
            <a:ext cx="12645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لِمَنْ حَازَ فَخْرَ مَصَافَاتِكَ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20:07:21Z</dcterms:created>
  <dc:creator>Charbel Azar</dc:creator>
  <dc:description/>
  <dc:language>en-US</dc:language>
  <cp:lastModifiedBy>-</cp:lastModifiedBy>
  <dcterms:modified xsi:type="dcterms:W3CDTF">2002-12-20T08:21:02Z</dcterms:modified>
  <cp:revision>23</cp:revision>
  <dc:subject/>
  <dc:title>Slide 1</dc:title>
</cp:coreProperties>
</file>